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902-CE4F-4146-BE77-CD9C83AF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D16-553A-4A26-A278-457B24D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C49-D5ED-465D-94CA-2939205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E47-0DCD-42AE-9126-4B5E6173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4E4-49CA-40D9-93BA-3D198BB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E3B-9B81-4270-BA39-2F91F74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8A2-C40F-4962-A5B0-20F6DF0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5D5-FBD5-4DD8-8EAD-9A35098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5C7-4B66-42D1-B95F-E02E8F4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9A8-C6ED-49F9-84B3-A2D7D25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457-0EBA-49C4-998D-5BEDE67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CA1-39B3-4805-A34A-FDC2E1D2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153-1CEF-443C-8947-18E55A174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ing the Process Jour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or types of 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combination of recording sty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does not have to be a book or a film or a website. It could be a combination of all of the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could be conceived as an installation that shows the multidisciplinary nature of the proces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could contain evidence of all these different styles collected in a book or a websi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026720"/>
            <a:ext cx="9618480" cy="776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cording interactions with sources, for example, teachers, supervisors, external contribu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storing useful information—quotes, pictures,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ans of explo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flection on stages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evaluating work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flecting on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sed by the student in a format that suits his or he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the student when receiving formativ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student to produce the project re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is no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a daily basis (unless this is useful for the stud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up after the process has been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work on top of the project; it is part of and supports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ry with detailed writing about what was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c document with only one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cumenting the process might includ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d Maps®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bullet list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chart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short paragraph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note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timeline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annotated illustration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pictur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website or blog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record important docu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red with the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visual records as well as written rec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onicles the key moments of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s all of the process in a secure 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audio rec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nteractive components such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 space for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 space for guest viewers or research expe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ve conversation/video contact lin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password prote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 annotated slide show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such as photographs and video clips chronicle the process of the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are arranged in a logical or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tations such as titles and comments explain the 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with images is a key communication tool of the stud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audio clips (music or voice recordings that convey aspects of the process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crap book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idence is arranged in a logical sequence (this could include collage and mind map wor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s are annot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s are dated to show chronolo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s that reveal the nature of the project are included such as samples of textiles, colour swat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ety of materials are u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allows the student to effectively communicate the proces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Word Document may be an effective process journal when: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is clearly chronicl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d maps, planning and brainstorming is inclu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s and thoughts are written to explain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may be inserted to show evidence of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rmat allows the student to communicate the process effective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video journal is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otage is edited to show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 moments of the entire the process are record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journal is shared with the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journal allows the student the opportunity to convey the richness of the undert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research and creation proc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nterview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commentary from supporters/ ment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jashree</cp:lastModifiedBy>
  <dcterms:modified xsi:type="dcterms:W3CDTF">2011-11-29T04:40:09Z</dcterms:modified>
  <cp:revision>3</cp:revision>
  <dc:subject/>
  <dc:title>PowerPoint Presentation</dc:title>
</cp:coreProperties>
</file>